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7CDD-F046-44A3-8770-CAC0C1656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3608-31AD-4B72-AFF4-2FF8DD011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4481-0EAE-4562-92AB-59A96B924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ADE9-A4BA-4BA6-A9EE-B0ACED16C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83B2-E238-4377-9847-DC1BFB0B0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72E8-1FC1-4F1C-9698-47CE21738F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626A-005B-4ACA-BF73-B4CE2FC4D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B8BA-B9AD-494E-9161-0A746D2D5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8254-76A4-4FCC-B155-704C81A82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241B-826A-44C2-AAA0-E45422B23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41BF-7175-42DA-88D2-F744DEA0B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991E-A2D6-4FA5-9728-B7830EE71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58920" y="115920"/>
            <a:ext cx="0" cy="865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58920" y="117360"/>
            <a:ext cx="0" cy="865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809640" cy="3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09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44000" y="6597360"/>
            <a:ext cx="7668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b091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12EE-37FE-4034-9A30-4D77B1F18C1F}" type="slidenum">
              <a:rPr b="1" lang="en-US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220920" y="5084640"/>
            <a:ext cx="5743800" cy="7920"/>
            <a:chOff x="3220920" y="5084640"/>
            <a:chExt cx="5743800" cy="7920"/>
          </a:xfrm>
        </p:grpSpPr>
        <p:sp>
          <p:nvSpPr>
            <p:cNvPr id="44" name=""/>
            <p:cNvSpPr/>
            <p:nvPr/>
          </p:nvSpPr>
          <p:spPr>
            <a:xfrm>
              <a:off x="3220920" y="5092560"/>
              <a:ext cx="5743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20920" y="5084640"/>
              <a:ext cx="57438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8000" y="177840"/>
            <a:ext cx="809640" cy="37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1640" y="115920"/>
            <a:ext cx="0" cy="8650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77080" y="-2160"/>
            <a:ext cx="2266920" cy="1739880"/>
          </a:xfrm>
          <a:prstGeom prst="rect">
            <a:avLst/>
          </a:prstGeom>
          <a:blipFill rotWithShape="0">
            <a:blip r:embed="rId3">
              <a:alphaModFix amt="59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Это место оставлять пусты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348000" y="2997360"/>
            <a:ext cx="4923000" cy="7920"/>
            <a:chOff x="3348000" y="2997360"/>
            <a:chExt cx="4923000" cy="7920"/>
          </a:xfrm>
        </p:grpSpPr>
        <p:sp>
          <p:nvSpPr>
            <p:cNvPr id="88" name=""/>
            <p:cNvSpPr/>
            <p:nvPr/>
          </p:nvSpPr>
          <p:spPr>
            <a:xfrm>
              <a:off x="3348000" y="3005280"/>
              <a:ext cx="4923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8000" y="2997360"/>
              <a:ext cx="49230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43280" y="206964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0964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Новая методика перехода </a:t>
            </a:r>
            <a:br>
              <a:rPr sz="2700"/>
            </a:b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на «1С:Бухгалтерию 8»: </a:t>
            </a:r>
            <a:br>
              <a:rPr sz="2700"/>
            </a:b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перенос оборотов и документов, использование привычного интерфейса </a:t>
            </a:r>
            <a:br>
              <a:rPr sz="2700"/>
            </a:b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«1С:Бухгалтерии 7.7»</a:t>
            </a:r>
            <a:br>
              <a:rPr sz="4800"/>
            </a:br>
            <a:endParaRPr b="1" lang="en-US" sz="27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ыгрузка в «1С:Бухгалтерии 7.7»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Обработка перехода в «1С:Бухгалтерии 7.7»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чиная с релиза 7.70.546 «1С:Бухгалтерии 7.7» Помощник перехода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 «1С:Бухгалтерию 8» выгружает данные в формате редакции 3.0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«1С:Бухгалтерии 8».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4530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еренос данных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нос данных осуществляется привычным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образом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если используется подключение к информационной базе,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сначала будет произведена выгрузка данных;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затем производится загрузка данных, проведение документов, проверка загруженных данных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53719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0917"/>
                </a:solidFill>
                <a:latin typeface="Arial"/>
              </a:rPr>
              <a:t>Новый интерфейс «1С:Бухгалтерии 8»</a:t>
            </a: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льзователь перешел на «1С:Бухгалтерию 8»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 «1С:Бухгалтерии 8» другие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документы и справочники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методики ввода данных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ринципы организации интерфейса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оведение программы при выполнении тех или иных действий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Как облегчить освоение «1С:Бухгалтерии 8» пользователями, которые перешли с «1С:Бухгалтерии 7.7»?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456320" cy="391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54240" y="2997360"/>
            <a:ext cx="6989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льзователь перешел на «1С:Бухгалтерию 8»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редоставить интерфейс, в котором можно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ориентироваться, используя навыки, приобретенные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ри работе в «1С:Бухгалтерии 7.7»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7291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овый «старый» интерфейс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Методика построения интерфейса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главное меню </a:t>
            </a:r>
            <a:r>
              <a:rPr b="0" lang="en-US" sz="2000" spc="-1" strike="noStrike">
                <a:solidFill>
                  <a:srgbClr val="5b0917"/>
                </a:solidFill>
                <a:latin typeface="Arial"/>
                <a:ea typeface="Arial"/>
              </a:rPr>
              <a:t>−</a:t>
            </a: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 разделы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7591320" cy="2990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2852640"/>
            <a:ext cx="64908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3860640"/>
            <a:ext cx="72072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2852640"/>
            <a:ext cx="86508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3860640"/>
            <a:ext cx="79200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2852640"/>
            <a:ext cx="64944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3860640"/>
            <a:ext cx="72072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852640"/>
            <a:ext cx="64908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98720" y="3860640"/>
            <a:ext cx="72072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852640"/>
            <a:ext cx="64908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46720" y="3860640"/>
            <a:ext cx="72072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852640"/>
            <a:ext cx="720720" cy="79236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3860640"/>
            <a:ext cx="93528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2852640"/>
            <a:ext cx="720720" cy="6476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3860640"/>
            <a:ext cx="647640" cy="2890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овый «старый» интерфейс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Методика построения интерфейса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выпадающие списки меню – панель навигации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61437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обенности «старого» интерфейс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нтерфейс максимально повторяет интерфейс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«1С:Бухгалтерии 7.7»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ри выборе той или иной команды мы получим поведение «1С:Бухгалтерии 8», максимально соответствующие поведению «1С:Бухгалтерии 7.7»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пример: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при выборе команды «Справочники – Материалы» будет открыт список справочника «Номенклатура»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при выборе команды «Документы – Выписка – Приход» будет создан документ «Поступление на расчетный счет»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обенности «старого» интерфейс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Если в «1С:Бухгалтерии 7.7» какое-либо действие </a:t>
            </a:r>
            <a:br>
              <a:rPr sz="1800"/>
            </a:b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осуществлялось одним документом, а в «1С:Бухгалтерии 8» несколькими, </a:t>
            </a:r>
            <a:br>
              <a:rPr sz="1800"/>
            </a:b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в интерфейсе такие документы объединены в группу с именем команды, соответствующим «1С:Бухгалтерии 7.7». 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Если в «1С:Бухгалтерии 7.7» какое-либо действие осуществлялось несколькими документами, а в «1С:Бухгалтерии 8» одним, при создании документа автоматически устанавливается вид операции и активизируется соответствующая закладка (при необходимости)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911320" y="2568600"/>
            <a:ext cx="1810080" cy="1266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072040" y="2492280"/>
            <a:ext cx="2524320" cy="1371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63403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льза «старого» интерфейс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Интерфейс как в «1С:Бухгалтерии 7.7»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позволяет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не заблудиться в новой программе: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все привычные команды на привычных местах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привыкнуть к особенностям ввода данных в программе: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несмотря на знакомые команды, работа осуществляется </a:t>
            </a:r>
            <a:br>
              <a:rPr sz="1800"/>
            </a:b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с документами и справочниками «1С:Бухгалтерии 8», поведение которых не изменялось. Это помогает привыкнуть к новым названиям и поведению программы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0917"/>
                </a:solidFill>
                <a:latin typeface="Arial"/>
              </a:rPr>
              <a:t>Переход из «1С:Бухгалтерии 7.7»</a:t>
            </a: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Новая методика перехода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на «1С:Бухгалтерию 8»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еренос оборотов и документов, использование привычного интерфейса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«1С:Бухгалтерии 7.7»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5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41c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мощник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нос данных из «1С:Бухгалтерии 7.7»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осуществляется при помощи обработки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«Перенос данных из 1С:Предприятия 7.7»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2532240"/>
            <a:ext cx="6075360" cy="35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6010560" cy="291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411280" y="1989000"/>
            <a:ext cx="48387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мощник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917"/>
                </a:solidFill>
                <a:latin typeface="Arial"/>
              </a:rPr>
              <a:t>Поддерживаются следующие варианты </a:t>
            </a:r>
            <a:br>
              <a:rPr sz="2400"/>
            </a:br>
            <a:r>
              <a:rPr b="0" lang="ru-RU" sz="2400" spc="-1" strike="noStrike">
                <a:solidFill>
                  <a:srgbClr val="5b0917"/>
                </a:solidFill>
                <a:latin typeface="Arial"/>
              </a:rPr>
              <a:t>переноса данных:</a:t>
            </a:r>
            <a:endParaRPr b="0" lang="en-US" sz="24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перенос данных через непосредственное подключение </a:t>
            </a:r>
            <a:br>
              <a:rPr sz="2000"/>
            </a:b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к информационной базе «1С:Бухгалтерии 7.7»;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перенос данных через файл, ранее подготовленный </a:t>
            </a:r>
            <a:br>
              <a:rPr sz="2000"/>
            </a:b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в «1С:Бухгалтерии 7.7» при помощи обработки выгрузки данных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68360" y="2060640"/>
            <a:ext cx="4838760" cy="4457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68360" y="1989000"/>
            <a:ext cx="48387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Загрузка данных из файл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Для загрузки данных следует указать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файл с данными, который был сформирован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 «1С:Бухгалтерии 7.7»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все остальные действия по загрузке данных будут осуществлены автоматически.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44913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дключение к баз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 диалоге переноса данных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из информационной базы следует указать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из какой базы переносить данные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период переноса данных (год)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какие данные требуется перенести: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справочники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остатки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обороты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0917"/>
                </a:solidFill>
                <a:latin typeface="Arial"/>
              </a:rPr>
              <a:t>документы,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все остальные действия по загрузке данных будут осуществлены автоматически.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53722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обенности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ри переходе с «1С:Бухгалтерии 7.7» можно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нести справочники, остатки, обороты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 документы за выбранный период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арианты переноса можно выбирать в любой комбинаци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ыгрузки документов и оборотов являются взаимодополняющими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обороты (сводные проводки по счетам) выгружаются за закрытый период (за который сдана отчетность);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документы выгружаются за текущий период: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реализовано графическое представление периода выгрузки оборотов и документов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4106880" cy="2900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274920" y="2813040"/>
            <a:ext cx="3760920" cy="3354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619280" y="1413000"/>
            <a:ext cx="53719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371920" cy="4790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обенности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608800"/>
            <a:ext cx="1292040" cy="969840"/>
          </a:xfrm>
          <a:prstGeom prst="borderCallout1">
            <a:avLst>
              <a:gd name="adj1" fmla="val 18750"/>
              <a:gd name="adj2" fmla="val -8333"/>
              <a:gd name="adj3" fmla="val -981"/>
              <a:gd name="adj4" fmla="val 216217"/>
            </a:avLst>
          </a:prstGeom>
          <a:solidFill>
            <a:srgbClr val="f9e383">
              <a:alpha val="50000"/>
            </a:srgbClr>
          </a:solidFill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иод выгрузки оборо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4221000"/>
            <a:ext cx="1296720" cy="863640"/>
          </a:xfrm>
          <a:prstGeom prst="borderCallout1">
            <a:avLst>
              <a:gd name="adj1" fmla="val 18750"/>
              <a:gd name="adj2" fmla="val -8333"/>
              <a:gd name="adj3" fmla="val 124449"/>
              <a:gd name="adj4" fmla="val -217134"/>
            </a:avLst>
          </a:prstGeom>
          <a:solidFill>
            <a:srgbClr val="f9e383">
              <a:alpha val="50000"/>
            </a:srgbClr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иод выгрузки доку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5300640"/>
            <a:ext cx="50292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5589720"/>
            <a:ext cx="1944720" cy="0"/>
          </a:xfrm>
          <a:prstGeom prst="line">
            <a:avLst/>
          </a:prstGeom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573360"/>
            <a:ext cx="1584360" cy="2872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61340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мощник переход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Правила переноса хранятся в самой обработке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перехода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3876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4:23:20Z</dcterms:created>
  <dc:creator>Admin</dc:creator>
  <dc:description/>
  <dc:language>en-US</dc:language>
  <cp:lastModifiedBy>user</cp:lastModifiedBy>
  <dcterms:modified xsi:type="dcterms:W3CDTF">2013-07-25T13:55:59Z</dcterms:modified>
  <cp:revision>78</cp:revision>
  <dc:subject/>
  <dc:title>Слайд 1</dc:title>
</cp:coreProperties>
</file>