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1.jpeg" ContentType="image/jpeg"/>
  <Override PartName="/ppt/media/image42.png" ContentType="image/png"/>
  <Override PartName="/ppt/media/image13.png" ContentType="image/png"/>
  <Override PartName="/ppt/media/image44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33.png" ContentType="image/png"/>
  <Override PartName="/ppt/media/image46.jpeg" ContentType="image/jpe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9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comments/comment3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kondratieva" initials="k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<Relationship Id="rId46" Type="http://schemas.openxmlformats.org/officeDocument/2006/relationships/commentAuthors" Target="commentAuthors.xml"/>
</Relationships>
</file>

<file path=ppt/comments/comment34.xml><?xml version="1.0" encoding="utf-8"?>
<p:cmLst xmlns:p="http://schemas.openxmlformats.org/presentationml/2006/main">
  <p:cm authorId="0" dt="2012-09-24T16:16:07.558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39FC-DBB9-4402-BF88-3C6EE71C72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3EA8-06A1-419B-A608-630D2CA628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E269-CE97-4821-8D4C-A5D6A8FB10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0063-CBFF-44BB-AF4E-921B3BDD35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72CF-CEA8-4525-A467-77FEAA6FC5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FA15-C04B-4D83-A86E-CCA7E5E735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086A-73DE-4CD2-95D9-3D8A965BD8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B9BE-0C7E-4CA3-8E84-90FD62DDB4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B320-6E12-4A15-B453-CDC6B8310A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E7E91-8D07-404C-B849-E2436D537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367D9-847B-4F7A-BC3C-811D199E5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3748C-88B4-418D-A8E8-11F984FEA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E3D37-D4EC-41FC-A08F-6764774EA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76000" y="2399040"/>
            <a:ext cx="7667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C50E5-A8EF-447D-AC94-6BB5D84CE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2E3D3-DCAE-4981-979A-C71DFE720B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76000" y="2399040"/>
            <a:ext cx="7667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C12F2-0399-44AD-B5F5-481891A9F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A7012-41EC-4920-8833-871BE7751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2399040"/>
            <a:ext cx="7667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1D9A2-259E-4646-9D1C-42D54DED4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57E92-C64B-49EF-90FD-353641D07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60103-DEA5-4E12-8ACA-94F4C6D1D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CC694-3024-4593-A5B9-E58680EF5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58920" y="115920"/>
            <a:ext cx="0" cy="865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58920" y="117360"/>
            <a:ext cx="0" cy="86544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809640" cy="371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2" marL="1143000" indent="-228600">
              <a:spcBef>
                <a:spcPts val="1375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3" marL="1600200" indent="-228600">
              <a:spcBef>
                <a:spcPts val="1375"/>
              </a:spcBef>
              <a:buClr>
                <a:srgbClr val="cc0000"/>
              </a:buClr>
              <a:buFont typeface="Times New Roman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4" marL="2057400" indent="-228600">
              <a:spcBef>
                <a:spcPts val="1375"/>
              </a:spcBef>
              <a:buClr>
                <a:srgbClr val="cc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5" marL="2057400" indent="-228600">
              <a:spcBef>
                <a:spcPts val="1375"/>
              </a:spcBef>
              <a:buClr>
                <a:srgbClr val="00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6" marL="2057400" indent="-228600">
              <a:spcBef>
                <a:spcPts val="1375"/>
              </a:spcBef>
              <a:buClr>
                <a:srgbClr val="00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32280"/>
            <a:ext cx="81723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091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 «1С:Бухгалтерия 8», редакция 3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244000" y="6597360"/>
            <a:ext cx="7668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b091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5503-929F-41FD-AB03-39EF80675984}" type="slidenum">
              <a:rPr b="1" lang="en-US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220920" y="5084640"/>
            <a:ext cx="5743800" cy="7920"/>
            <a:chOff x="3220920" y="5084640"/>
            <a:chExt cx="5743800" cy="7920"/>
          </a:xfrm>
        </p:grpSpPr>
        <p:sp>
          <p:nvSpPr>
            <p:cNvPr id="44" name=""/>
            <p:cNvSpPr/>
            <p:nvPr/>
          </p:nvSpPr>
          <p:spPr>
            <a:xfrm>
              <a:off x="3220920" y="5092560"/>
              <a:ext cx="57438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220920" y="5084640"/>
              <a:ext cx="574380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08000" y="177840"/>
            <a:ext cx="809640" cy="371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71640" y="115920"/>
            <a:ext cx="0" cy="8650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091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091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b0917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cc0000"/>
              </a:buClr>
              <a:buFont typeface="Arial"/>
              <a:buChar char="∙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348000" y="2997360"/>
            <a:ext cx="4923000" cy="7920"/>
            <a:chOff x="3348000" y="2997360"/>
            <a:chExt cx="4923000" cy="7920"/>
          </a:xfrm>
        </p:grpSpPr>
        <p:sp>
          <p:nvSpPr>
            <p:cNvPr id="87" name=""/>
            <p:cNvSpPr/>
            <p:nvPr/>
          </p:nvSpPr>
          <p:spPr>
            <a:xfrm>
              <a:off x="3348000" y="3005280"/>
              <a:ext cx="49230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48000" y="2997360"/>
              <a:ext cx="492300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43280" y="2069640"/>
            <a:ext cx="59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80964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1267920"/>
            <a:ext cx="7667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Редакция 3.0: </a:t>
            </a:r>
            <a:br>
              <a:rPr sz="4800"/>
            </a:b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новые возможности «1С:Бухгалтерии 8»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ерсональный рабочий стол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92720" y="1844640"/>
            <a:ext cx="1942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Так можно настроить рабочий стол бухгалтера, ответственного </a:t>
            </a:r>
            <a:br>
              <a:rPr sz="1400"/>
            </a:b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за работу с банком:</a:t>
            </a:r>
            <a:br>
              <a:rPr sz="1400"/>
            </a:b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журнал выписок,</a:t>
            </a:r>
            <a:br>
              <a:rPr sz="1400"/>
            </a:b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журнал платежек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Прямо здесь можно:</a:t>
            </a:r>
            <a:br>
              <a:rPr sz="1400"/>
            </a:b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создать новую платежку (панель «Создать»)</a:t>
            </a:r>
            <a:br>
              <a:rPr sz="1400"/>
            </a:b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выгрузить ее в банк («Обмен с клиентом банка»)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Так просто еще никогда не было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52360" y="1779480"/>
            <a:ext cx="6696000" cy="481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94067-1538-423F-A0A2-11EBCB7927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Формы документов и справочников редакций 3.0 и 2.0 похожи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Нет цели шокировать или удивить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4920" y="1839960"/>
            <a:ext cx="4392720" cy="2741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465800" y="2921040"/>
            <a:ext cx="4643280" cy="3244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403280" y="4653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д. 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72360" y="623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д. 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D7C85-5DA6-44BA-91B7-A150E96E3EA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Сделайте формы</a:t>
            </a:r>
            <a:br>
              <a:rPr sz="2300"/>
            </a:b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удобными лично вам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ример использования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маленькая организация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УСН 6 %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1 пользователь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только оказание услуг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27640" y="3429000"/>
            <a:ext cx="4716360" cy="31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CB407-32DC-406F-AE00-CAAF573F3C7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Сделайте формы</a:t>
            </a:r>
            <a:br>
              <a:rPr sz="2300"/>
            </a:b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удобными лично вам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732720" y="1989000"/>
            <a:ext cx="2232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Документ «Реализация товаров и услуг»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Так форма документа выглядит </a:t>
            </a:r>
            <a:br>
              <a:rPr sz="1400"/>
            </a:b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по умолчанию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Сделано на все случаи жизни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" y="1619280"/>
            <a:ext cx="6732720" cy="41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97D5C-815F-4002-B4F2-142A07156FC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Сделайте формы</a:t>
            </a:r>
            <a:br>
              <a:rPr sz="2300"/>
            </a:b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удобными лично вам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48360" y="1944360"/>
            <a:ext cx="2089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Та же самая реализация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Настроенная лично для вас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Ничего лишнего, все работает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Теперь так будет всегда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08000" y="1700280"/>
            <a:ext cx="6553080" cy="436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0FE3-9CF8-49DF-A88D-54C971709A2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Сделайте формы</a:t>
            </a:r>
            <a:br>
              <a:rPr sz="2300"/>
            </a:b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удобными лично вам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48000" y="1844280"/>
            <a:ext cx="2087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0917"/>
                </a:solidFill>
                <a:latin typeface="Arial"/>
              </a:rPr>
              <a:t>Что мы настроили?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0917"/>
                </a:solidFill>
                <a:latin typeface="Arial"/>
              </a:rPr>
              <a:t>Убрали лишнее:</a:t>
            </a:r>
            <a:br>
              <a:rPr sz="1400"/>
            </a:br>
            <a:r>
              <a:rPr b="0" lang="ru-RU" sz="1400" spc="-1" strike="noStrike">
                <a:solidFill>
                  <a:srgbClr val="5b0917"/>
                </a:solidFill>
                <a:latin typeface="Arial"/>
              </a:rPr>
              <a:t>- все по НДС,</a:t>
            </a:r>
            <a:br>
              <a:rPr sz="1400"/>
            </a:br>
            <a:r>
              <a:rPr b="0" lang="ru-RU" sz="1400" spc="-1" strike="noStrike">
                <a:solidFill>
                  <a:srgbClr val="5b0917"/>
                </a:solidFill>
                <a:latin typeface="Arial"/>
              </a:rPr>
              <a:t>- поля «Организация», «Склад», «Подразделение» </a:t>
            </a:r>
            <a:br>
              <a:rPr sz="1400"/>
            </a:br>
            <a:r>
              <a:rPr b="0" lang="ru-RU" sz="1400" spc="-1" strike="noStrike">
                <a:solidFill>
                  <a:srgbClr val="5b0917"/>
                </a:solidFill>
                <a:latin typeface="Arial"/>
              </a:rPr>
              <a:t>и др.,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5b0917"/>
                </a:solidFill>
                <a:latin typeface="Arial"/>
              </a:rPr>
              <a:t>счета учета,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0917"/>
                </a:solidFill>
                <a:latin typeface="Arial"/>
              </a:rPr>
              <a:t>- лишние вкладки,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0917"/>
                </a:solidFill>
                <a:latin typeface="Arial"/>
              </a:rPr>
              <a:t>- вынесли кнопку печати Акта прямо </a:t>
            </a:r>
            <a:br>
              <a:rPr sz="1400"/>
            </a:br>
            <a:r>
              <a:rPr b="0" lang="ru-RU" sz="1400" spc="-1" strike="noStrike">
                <a:solidFill>
                  <a:srgbClr val="5b0917"/>
                </a:solidFill>
                <a:latin typeface="Arial"/>
              </a:rPr>
              <a:t>на форму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0917"/>
                </a:solidFill>
                <a:latin typeface="Arial"/>
              </a:rPr>
              <a:t>Сосредоточьтесь </a:t>
            </a:r>
            <a:br>
              <a:rPr sz="1400"/>
            </a:br>
            <a:r>
              <a:rPr b="0" lang="ru-RU" sz="1400" spc="-1" strike="noStrike">
                <a:solidFill>
                  <a:srgbClr val="5b0917"/>
                </a:solidFill>
                <a:latin typeface="Arial"/>
              </a:rPr>
              <a:t>на главном!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08000" y="1700280"/>
            <a:ext cx="6553080" cy="436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A0DAC-06E8-457A-8DDC-DB5425FD3EB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Сделайте формы</a:t>
            </a:r>
            <a:br>
              <a:rPr sz="2300"/>
            </a:b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удобными лично вам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За 5 минут. 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Не выходя из программы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Конфигурирование не требуется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Настройки сохраняются автоматически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240000" cy="2085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50920" y="1817640"/>
            <a:ext cx="4392360" cy="2687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572000" y="2924280"/>
            <a:ext cx="720720" cy="431640"/>
          </a:xfrm>
          <a:prstGeom prst="rightArrow">
            <a:avLst>
              <a:gd name="adj1" fmla="val 50000"/>
              <a:gd name="adj2" fmla="val 417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87656-FB43-475C-B1B9-837801A48C4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Управление настройками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рализованное управление настройками внешнего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а форм.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но скопировать настройки формы любому пользователю.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но удалять настройки внешнего вида.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973160" y="3151080"/>
            <a:ext cx="468648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8F26D-264C-437D-A477-3D0A1B17933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Контроль ошибок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рограмма показывает, в каком именно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реквизите допущена ошибка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782964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E91BE-0FEA-452D-B419-7FABFC61D40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История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История позволяет перейти к любому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документу, с которым работали недавно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552760" y="2155680"/>
            <a:ext cx="5619600" cy="41529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08000" y="6021360"/>
            <a:ext cx="8856720" cy="754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flipV="1">
            <a:off x="826920" y="3645000"/>
            <a:ext cx="1800360" cy="3024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0DE79-FCE1-47A7-AED8-A3A332DE78D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Основные направления развития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" y="148392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Новая редакция 3.0 типовой конфигурации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«Бухгалтерия предприятия»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Использование возможностей платформы 8.2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работа в режиме управляемого приложения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перенос основной «вычислительной» нагрузки на сервер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новые возможности управления интерфейсом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поддержка тонкого и веб-клиента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возможность работы в режиме сервиса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814840" cy="28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195A0-5A13-40D3-87B7-0DB1643676E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Избранное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В «Избранное» можно добавить конкретные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документы, отчеты и многое другое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для быстрого доступа из любой точки программы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455840" y="2565360"/>
            <a:ext cx="5533920" cy="1438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165400" y="4221000"/>
            <a:ext cx="6438960" cy="229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6323C-165C-476B-B0E0-C427054A706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Ссылки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На любой документ можно получить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специальную ссылку, по которой его затем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можно сразу открыть, минуя поиск в журнале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Эту ссылку можно передать другому пользователю базы, чтобы он не тратил время на поиск нужного документа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08000" y="2352600"/>
            <a:ext cx="6675480" cy="2289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619280" y="4292640"/>
            <a:ext cx="7405560" cy="23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03FD7-E1EF-4FA5-A2CC-D88DF41C3C08}" type="slidenum">
              <a:t>2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Настройка списков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Вывод произвольных реквизитов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Управление внешним видом списка (список, дерево)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Возможности группировки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Расширенные возможности сортировок и отборов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Условное оформление списков в зависимости от тех данных, которые в нем отображаются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6823080" cy="4678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826920" y="1773360"/>
            <a:ext cx="6823080" cy="4678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826920" y="1773360"/>
            <a:ext cx="6823080" cy="4678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26920" y="1773360"/>
            <a:ext cx="6823080" cy="467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C6709-9A7E-49D2-81CA-D477E258F464}" type="slidenum">
              <a:t>22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Выполнение длительных операций в фоне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Работа пользователя не блокируется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например, можно запустить закрытие месяца и вводить платежки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Выполняющиеся длительные операции можно прервать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не дожидаясь их выполнения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например, запустили формирование отчета с ошибочными настройками: можно изменить настройки и переформировать отчет, не дожидаясь завершения выполнения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219640" y="4043520"/>
            <a:ext cx="3924360" cy="256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67B46-3C34-48BF-B4EC-98587AC92AC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ример фонового заполнения документа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90360" y="1773360"/>
            <a:ext cx="8802720" cy="472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F657A-44AA-4355-A3E9-7A645014D23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ример фонового формирования отчета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280360" cy="523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9D461-C1E8-436C-81EC-B25477433A0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Только просмотр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Добавлена возможность доступа к ИБ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с правами только на просмотр данных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6546960" cy="45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B1F2D-103B-4B6B-B908-248A681833A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Иллюстрированное описание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6391440" cy="5038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059280" y="3068640"/>
            <a:ext cx="3528720" cy="1873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987640" y="2035080"/>
            <a:ext cx="6156360" cy="464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FC021-B795-4794-825D-3B32E8FDC4B0}" type="slidenum">
              <a:t>27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Иллюстрированное описание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6702480" cy="505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BCBF4-3CA9-46A1-94C4-C383A4FBD0B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олезная информация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b0917"/>
                </a:solidFill>
                <a:latin typeface="Arial"/>
              </a:rPr>
              <a:t>Полезная информация </a:t>
            </a: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– </a:t>
            </a:r>
            <a:br>
              <a:rPr sz="2200"/>
            </a:b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новый инструмент методической поддержки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Назначение: 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упрощение начального освоения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быстрый доступ к актуальным материалам на сайте ИТС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Теперь не только статьи, но и </a:t>
            </a:r>
            <a:r>
              <a:rPr b="1" lang="ru-RU" sz="2200" spc="-1" strike="noStrike">
                <a:solidFill>
                  <a:srgbClr val="5b0917"/>
                </a:solidFill>
                <a:latin typeface="Arial"/>
              </a:rPr>
              <a:t>видеоролики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коротко о главном – «наблюдение из-за спины»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867280" y="4334040"/>
            <a:ext cx="3313080" cy="22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E611F-1153-4063-8C8B-A6F8F630302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Зачем нужна редакция 3.0?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8928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Мы разработали единую конфигурацию </a:t>
            </a:r>
            <a:br>
              <a:rPr sz="2200"/>
            </a:b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для работы через Интернет и локально</a:t>
            </a: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Работа через Интернет может получить распространение </a:t>
            </a:r>
            <a:br>
              <a:rPr sz="2200"/>
            </a:b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в ближайшее время</a:t>
            </a: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Мы готовы предоставить нашим пользователям </a:t>
            </a:r>
            <a:br>
              <a:rPr sz="2200"/>
            </a:br>
            <a:r>
              <a:rPr b="1" lang="ru-RU" sz="2200" spc="-1" strike="noStrike">
                <a:solidFill>
                  <a:srgbClr val="5b0917"/>
                </a:solidFill>
                <a:latin typeface="Arial"/>
              </a:rPr>
              <a:t>лучший сервис в любом случае</a:t>
            </a:r>
            <a:r>
              <a:rPr b="1" lang="en-US" sz="2200" spc="-1" strike="noStrike">
                <a:solidFill>
                  <a:srgbClr val="5b0917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64000" y="4076640"/>
            <a:ext cx="3780000" cy="25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6EB24-FC6B-4430-9A15-0FCFB16D96F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олезная информация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39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96D79-7201-490B-BB24-8319FFF5484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Видеоролики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71280" y="1336680"/>
            <a:ext cx="6877080" cy="518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C9ED2-3DA7-45BE-A238-79953A0E63B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Анализ вопросов пользователей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928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Начиная с мая 2012 г. проводится регулярный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мониторинг вопросов на линию консультаций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11280" y="2563920"/>
            <a:ext cx="7770600" cy="27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AA163-D62C-489E-9462-EF1EBA6C32C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Анализ вопросов пользователей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8675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Анализ проводится по итогам каждой недели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8460000" cy="468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339B0-9B93-462F-860A-4B90273896F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Анализ вопросов пользователей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7931160" cy="516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4705B-18E4-4D73-92BF-DA50CFB3922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Визиты к пользователям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Наблюдение за работой пользователя на его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рабочем месте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Выявление конкретных проблем в работе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онимание целей и задач пользователя, контекста его работы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4500720" y="3573360"/>
            <a:ext cx="4356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B6FC5-2F41-4289-8961-61A64234674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Выявление проблем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Например, по результатам проведенного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анализа подсистемы НДС выявлено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более 80-ти различных проблем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и неудобств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Далее замечания ранжируются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о приоритетам и определяются сроки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их устранения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В первую очередь обращаем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внимание на замечания по наиболее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частотным операциям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808600" y="2133720"/>
            <a:ext cx="3335400" cy="44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BC6E2-1EC2-46D6-BA34-E06B052CDCF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овышение удобства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0917"/>
                </a:solidFill>
                <a:latin typeface="Arial"/>
              </a:rPr>
              <a:t>Программа </a:t>
            </a:r>
            <a:r>
              <a:rPr b="1" lang="en-US" sz="3000" spc="-1" strike="noStrike">
                <a:solidFill>
                  <a:srgbClr val="5b0917"/>
                </a:solidFill>
                <a:latin typeface="Arial"/>
              </a:rPr>
              <a:t>не для компьютера</a:t>
            </a:r>
            <a:r>
              <a:rPr b="0" lang="en-US" sz="3000" spc="-1" strike="noStrike">
                <a:solidFill>
                  <a:srgbClr val="5b0917"/>
                </a:solidFill>
                <a:latin typeface="Arial"/>
              </a:rPr>
              <a:t>,</a:t>
            </a:r>
            <a:br>
              <a:rPr sz="3000"/>
            </a:br>
            <a:r>
              <a:rPr b="0" lang="en-US" sz="3000" spc="-1" strike="noStrike">
                <a:solidFill>
                  <a:srgbClr val="5b0917"/>
                </a:solidFill>
                <a:latin typeface="Arial"/>
              </a:rPr>
              <a:t>программа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для бухгалтера.</a:t>
            </a:r>
            <a:endParaRPr b="0" lang="en-US" sz="30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979640" y="2421000"/>
            <a:ext cx="5400720" cy="394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14370-43EE-4CD7-955B-B868E51E123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ереход и поддержка </a:t>
            </a:r>
            <a:br>
              <a:rPr sz="2300"/>
            </a:b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редыдущих версий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оддержку предыдущей редакции 2.0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ланируется завершить в 2013 году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отражение изменений законодательства – до конца 2013 года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поддержка сдачи годовой отчетности за 2013 год – </a:t>
            </a:r>
            <a:br>
              <a:rPr sz="2000"/>
            </a:b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до конца марта 2014 года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ереход с редакции 2.0 на редакцию 3.0 с сохранением данных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без дополнительной оплаты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ереход с «1С:Бухгалтерии 7.7» упрощен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b0917"/>
                </a:solidFill>
                <a:latin typeface="Arial"/>
              </a:rPr>
              <a:t>Можно перейти сразу на «1С:Бухгалтерию» в Интернете!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Нужно обратиться к своей обслуживающей организации </a:t>
            </a:r>
            <a:br>
              <a:rPr sz="2000"/>
            </a:b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(партнеру фирмы «1С»)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D225E-7800-42F6-B6E4-8AC8802E48E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76000" y="981000"/>
            <a:ext cx="76676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Редакция 3.0: </a:t>
            </a:r>
            <a:br>
              <a:rPr sz="4800"/>
            </a:b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новые возможности «1С:Бухгалтерии 8»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458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41c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«1С:Бухгалтерия» через Интернет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7380360" cy="5419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11280" y="1197000"/>
            <a:ext cx="2592360" cy="720720"/>
          </a:xfrm>
          <a:prstGeom prst="wedgeEllipseCallout">
            <a:avLst>
              <a:gd name="adj1" fmla="val 30833"/>
              <a:gd name="adj2" fmla="val 282819"/>
            </a:avLst>
          </a:prstGeom>
          <a:solidFill>
            <a:srgbClr val="ffff99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Информационная база в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облак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8921D-8FE7-49CB-814D-4678DADDF6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«1С:Бухгалтерия» через Интернет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8066160" cy="5162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3357720"/>
            <a:ext cx="2592360" cy="720720"/>
          </a:xfrm>
          <a:prstGeom prst="wedgeEllipseCallout">
            <a:avLst>
              <a:gd name="adj1" fmla="val 171921"/>
              <a:gd name="adj2" fmla="val 236125"/>
            </a:avLst>
          </a:prstGeom>
          <a:solidFill>
            <a:srgbClr val="ffff99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Информационная база в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офис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ED204-2B27-4696-B4F3-D91993CA56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Зачем нужна редакция 3.0?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928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«1С:Бухгалтерия 8» в редакции 3.0 предоставила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больше возможностей для удобной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и эффективной работы без доработки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конфигурации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Теперь партнеры «1С» смогут лучше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озаботиться о наших пользователях,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сделать больше полезного,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не отвлекаться на мелкие задачи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402240" y="2565360"/>
            <a:ext cx="2741760" cy="405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1FA30-420C-4752-BB8A-DC275B5FAF8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Сохранение преемственности </a:t>
            </a:r>
            <a:br>
              <a:rPr sz="2300"/>
            </a:b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с редакцией 2.0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Новая редакция разработана на основе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конфигурации «Бухгалтерия предприятия»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редакции 2.0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Обеспечивается сохранение методологии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ведения бухгалтерского и налогового учета редакции 2.0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новая подсистема учета зарплаты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Накопленные в редакции 2.0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данные при переходе на новую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редакцию сохраняются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Все изменения законодательства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одновременно реализуются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в обеих редакциях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64000" y="3500280"/>
            <a:ext cx="3780000" cy="313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F3046-83B5-4D6F-96CD-478427A315B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Настраивается все!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08720" y="1844280"/>
            <a:ext cx="1727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Все можно изменить так, как вам будет удобно: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состав вкладок,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состав ссылок </a:t>
            </a:r>
            <a:br>
              <a:rPr sz="1400"/>
            </a:b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в панели навигации,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состав пунктов </a:t>
            </a:r>
            <a:br>
              <a:rPr sz="1400"/>
            </a:b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в панели действий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6985080" cy="502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D8A7A-C659-4DB6-A658-F21A61418DC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Настраивается все!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308720" y="1844280"/>
            <a:ext cx="1727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Просто перетащите нужные команды </a:t>
            </a:r>
            <a:r>
              <a:rPr b="1" lang="en-US" sz="1400" spc="-1" strike="noStrike">
                <a:solidFill>
                  <a:srgbClr val="5b0917"/>
                </a:solidFill>
                <a:latin typeface="Arial"/>
              </a:rPr>
              <a:t>направо</a:t>
            </a: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, </a:t>
            </a:r>
            <a:br>
              <a:rPr sz="1400"/>
            </a:b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а ненужные переместите </a:t>
            </a:r>
            <a:r>
              <a:rPr b="1" lang="en-US" sz="1400" spc="-1" strike="noStrike">
                <a:solidFill>
                  <a:srgbClr val="5b0917"/>
                </a:solidFill>
                <a:latin typeface="Arial"/>
              </a:rPr>
              <a:t>налево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6842160" cy="46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84C24-5F0D-41DF-A34A-7C02CBFAD35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4:23:20Z</dcterms:created>
  <dc:creator>Admin</dc:creator>
  <dc:description/>
  <dc:language>en-US</dc:language>
  <cp:lastModifiedBy>user</cp:lastModifiedBy>
  <dcterms:modified xsi:type="dcterms:W3CDTF">2013-07-25T13:56:51Z</dcterms:modified>
  <cp:revision>95</cp:revision>
  <dc:subject/>
  <dc:title>Слайд 1</dc:title>
</cp:coreProperties>
</file>