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462D-2918-4C21-9B8F-6023E7BE6A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9142-216C-4ACF-9D1F-5021527842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D0F6-D941-4045-92D8-F878207CAD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DF5C-789F-43E7-BB60-51F7A395B0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3FF6-A77B-4512-83A7-3527CEDECF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C04D-7145-4C1D-8C5F-A71AF6FE76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8BAA-DD16-47EA-B2DC-9E9C8BA018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30F6-9891-4F7A-9B4C-B8D0F54950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B1B1-928F-4D95-BB91-85CCB5CBF0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70C7-5A27-41EA-8275-E0324B748D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BCA1-0775-465E-9E7F-66D260D60F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84F8-FF3E-49DD-853B-8E4774927C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CD2D-6783-43B7-B357-2BB44FCC59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6D13-DEDB-45C4-A084-0DFB95CE44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60E7-EB95-4570-8460-DA26BF3384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EDE1-9D7B-4C66-B2D3-B6FCFCDE6A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4E98-C396-4A18-A5D5-B3602CD616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5FBB-F847-41B9-97F6-8E65E5D4EA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0536-19D1-47DC-AB90-FC7545C708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3F57-5D43-4205-A6A8-8C36E72B3D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7B95-1B3B-4887-AA62-9061D0607A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715A-2EAB-4B1A-B02F-4726BA20AD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DF64-ABC9-44EF-8B06-A66A15824C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4012-29D4-42D5-AB48-F2222A8292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9355-AC4F-4077-A126-DFCBA8D2FA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550A-38DC-4C2B-8066-22E52E09A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184644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2661-D890-4D36-9738-18132BDC2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1A82-AFD7-4779-B4AF-C3C45F76B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8336-766F-4466-98C1-8C333E6A5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DF76-E562-46F0-831E-A2476D88A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184644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98100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1846440"/>
            <a:ext cx="294408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6982-B222-4607-89DD-34E8C8825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9147-8CAD-4748-BF99-28A403E93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11E0-46D3-463B-AF0C-7A4270470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06E9-D2F8-48E9-8453-C5FADE52C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486B-1791-4B30-861E-3B4F8ED9C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184644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3DAE-7188-4FBF-BDAA-753BA9136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981000"/>
            <a:ext cx="44622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1846440"/>
            <a:ext cx="9144000" cy="7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65EF-0F06-4238-B23C-B1F50D1D9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32280"/>
            <a:ext cx="8172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245080" y="6624360"/>
            <a:ext cx="86364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3EEA-77F7-4073-8A56-6E7554542640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179280" y="177840"/>
            <a:ext cx="863640" cy="514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76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Новые возможности и преимущества «1С:Зарплата и Управление Персоналом 8» по сравнению с «1С:Зарплата и Кадры 7.7»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вод индивидуальных графиков рабо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можно ввести индивидуальный график работы сотрудник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водится на очередной месяц: за каждый день или сводно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Автоматически заполняется по основному графику и редактируется вручную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187280" y="3284640"/>
            <a:ext cx="7686720" cy="3566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852640"/>
            <a:ext cx="360036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7240" indent="-230040">
              <a:lnSpc>
                <a:spcPct val="90000"/>
              </a:lnSpc>
              <a:spcBef>
                <a:spcPts val="524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D1DA-016F-4237-B97B-69DB44D77D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Гибкий (скользящий) график рабо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можно использовать графики работы «со скользящими выходными»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четание возможностей описания произвольных графиков работы и ежемесячно вводимых индивидуальных графиков позволяет вести учет времени сотрудников, работающих по графикам «со скользящими выходными»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20600" y="2494080"/>
            <a:ext cx="3514680" cy="424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348000" y="3174840"/>
            <a:ext cx="55594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9DDD-A2C1-4047-99EC-E400D6BD1E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окумент «Табель учета рабочего времени»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документ должен заполняться ежемесячно, иначе зарплата работнику не может быть рассчитана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документ может вводиться по мере необходимости или ежемесячно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Если документ «Табель» отсутствует, отработанное время для расчета заработной платы определяется по основному или индивидуальному графику с учетом неявок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700360" y="3789360"/>
            <a:ext cx="5689440" cy="2887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3284640"/>
            <a:ext cx="8012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6050-74DE-4C6D-A935-5F0091DAF1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тчет «Табель учета рабочего времени»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отчет может быть получен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после расчета зарплаты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отчет текущего месяца формируется в любой момен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ля расчета аванса по фактической выработке за первую половину месяца предусмотрена возможность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егистрации табеля за первую половину месяц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с учетом введенных на момент заполнения документа данных об отклонениях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зможен ввод табеля за любой период в рамках расчетного месяца и получение печатной формы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а неоконченный месяц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условиях отсутствия данных о расчетах заработной платы используютс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анные кадрового учет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888BA-B041-47C9-AF3E-5A88F4A5AD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дельный наряд и фактически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тработанное врем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302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документе «Сдельный наряд» существует возможность редактирования данных учета рабочего времен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780000" y="1197000"/>
            <a:ext cx="5194080" cy="51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F599-3796-4E04-9CF8-0B3FAB3FD5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оизвольные формулы расчета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176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для начисления можно указать произвольную формулу расчета с использованием до шести различных показателей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льзователи могут описать любое количество показателей расчет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211640" y="1052640"/>
            <a:ext cx="4865760" cy="55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0921-E3D0-4DFC-BAC6-B52C3837A9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ериод расчета зарпла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8856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смена периода расчета зарплаты производится по строго определенному алгоритму действий после получения все выходные документ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рректировка данных прошедших периодов таит в себе много подводных камне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отсутствует жесткий регламент перехода как в последующий, так и в предыдущие расчетные период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 необходимости защиты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анных от несанкционированных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зменений вводится дата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апрета изменения данных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рректировка данных прошедших периодов проста и прозрачн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5308560" y="3789360"/>
            <a:ext cx="3727440" cy="16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8FB1-5FC4-4B0E-BF92-47F7B94D65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анс за первую половину месяца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документ «Начисление заработной платы работникам организации» рассчитывает сумму аванса за первую половину месяца по фактической выработк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56000" y="2133720"/>
            <a:ext cx="6335280" cy="4560480"/>
            <a:chOff x="2556000" y="2133720"/>
            <a:chExt cx="6335280" cy="45604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2635200" y="2133720"/>
              <a:ext cx="6256080" cy="45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56000" y="2927880"/>
              <a:ext cx="2887200" cy="318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D44C8-6469-4914-98D4-6D03F4667B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налитическая отчетность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 результатам расчет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5840" y="1052280"/>
            <a:ext cx="8929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се отчеты формируются не только за месяц, но и за любой период времен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овый отчет «Анализ начислений работникам» позволяет анализировать величину заработка, суммы начисленного ЕСН и начислений, учитываемых при формировании проводок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763640" y="2185920"/>
            <a:ext cx="7051680" cy="44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D57C9-6F2D-47B3-87BE-FBAFA302E0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войства и категории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Механизм свойств позволяет без конфигурирования произвольным образом расширять круг сведений о работниках, хранимых в И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Механизм категорий позволяет группировать и отбирать работников по произвольным критериям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900000" y="3429000"/>
            <a:ext cx="7345440" cy="33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BFBA-E8B2-47DF-ADA3-F6CB3E71C2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 чем пойдет речь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равнительная характеристика функциональных возможностей конфигураций «Зарплата и Управление Персоналом» и «Зарплата и Кадры»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едение учета нескольких организаций в единой баз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дровый уче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чет использования рабочего времен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счет заработной платы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четность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ервисные механизмы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08A1-FD58-4003-9CEB-1507281D15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адровая аналитическая отчетность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получение информации о сотрудниках возможно с помощью конструктора отчетов «Произвольные отчеты», что требует понимания основ программирования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отчет «Списки работников организации» позволяет получать полную аналитическую информацию о работниках, учитываемых в информационной базе, в различных аналитических разрезах, дорабатывать существующие и, с помощью простой настройки, формировать новые отчет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900000" y="1989000"/>
            <a:ext cx="7920000" cy="456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FAAD-E3D6-4353-9712-E59984E3D7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нализ начисленных налогов и взнос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специализированные средства анализа отсутствуют, некоторую информацию можно получить в расшифровках отчета «Расчет по ЕСН» либо с помощью дополнительных обработок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отчет «Анализ начисленных налогов и взносов» позволяет анализировать начисления по всем налогам и в разрезе каждого налога за любой выбранный перио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54200" y="1333440"/>
            <a:ext cx="7705440" cy="534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4405F-8AEF-4997-96A8-8CA72B0F67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егламентированная отчетность для ФСС РФ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: Предусмотрена возможность выгрузки данных в конфигурацию «1С:Бухгалтерия 7.7», в которой заполняется расчетные ведомости по средствам фонда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реализованы расчетные ведомости по средствам фонда социального страхования РФ – формы 4-ФСС и 4а-ФСС и их автоматическое заполнени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1FA06-0083-4633-9750-D33F7BD667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оверка соотношений показателей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для расчета по авансовым платежам по ЕСН и страховым взносам на обязательное пенсионное страхование реализован режим проверки соотношений показателей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720072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E384-2D6E-48A0-ACF6-32CE8C6083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ерсонифицированный учет ПФР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ЗиК в целях создания архива переданных в ПФР сведений пользователь должен самостоятельно сохранять переданные в ПФР файлы на диске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ЗУП ведется архив переданных в ПФР сведений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799"/>
              </a:spcAft>
              <a:buSzPct val="1286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сле передачи данных в ПФР в ИБ сохраняются переданные в ПРФ файлы: в любой момент, не выходя из программы, можно увидеть, какие именно данные передавались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799"/>
              </a:spcAft>
              <a:buSzPct val="1286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нкетные данные и данные о стаже сотрудников при этом не используются и могут быть изменены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95280" y="3284640"/>
            <a:ext cx="8534520" cy="293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332000" y="3284640"/>
            <a:ext cx="6676920" cy="3409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981000"/>
            <a:ext cx="8254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01D1-6462-4620-A24D-1C57E5A69E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4788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льзователю предоставляется список его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текущих задач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и выявляются на основании анализа введенных данных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поминания о запланированных ранее кадровых перемещениях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поминания о днях рождения работников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и по перерасчету начислений или по доначисления зарплаты после отмены ошибочно введенного отклонения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вод документов-начислений на основании кадровых документов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9640" indent="-18072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числение зарплаты, расчет ЕСН и отражение зарплаты в учете для очередного месяц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93600" y="115920"/>
            <a:ext cx="8928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ервисные механизм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932360" y="1413000"/>
            <a:ext cx="4119480" cy="4537080"/>
            <a:chOff x="4932360" y="1413000"/>
            <a:chExt cx="4119480" cy="4537080"/>
          </a:xfrm>
        </p:grpSpPr>
        <p:pic>
          <p:nvPicPr>
            <p:cNvPr id="178" name="" descr=""/>
            <p:cNvPicPr/>
            <p:nvPr/>
          </p:nvPicPr>
          <p:blipFill>
            <a:blip r:embed="rId9"/>
            <a:stretch/>
          </p:blipFill>
          <p:spPr>
            <a:xfrm>
              <a:off x="4932360" y="1413000"/>
              <a:ext cx="4119480" cy="45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932360" y="1413000"/>
              <a:ext cx="4105080" cy="453708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CED4-B9A3-4F4C-83D7-1871296BDD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ервисные механизм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Групповая обработка элементов справочников и документов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бмен документами по электронной почт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едусмотрена возможность отправки документов по электронной почте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редства разделения доступа к данным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едусмотрена возможность разделения доступа по рабочим местам (ролям) пользователей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CCB6-1AB1-4FEA-92A9-1A2902CC5B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Новые возможности и преимущества «1С:Зарплата и Управление Персоналом 8» по сравнению с «1С:Зарплата и Кадры 7.7»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7280" y="5013360"/>
            <a:ext cx="48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пасибо за 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нимание!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едение учета нескольких организаций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 единой базе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для каждой организации ведется своя информационная база данных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данные учета нескольких организаций «уживаются» в одной информационной базе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требуется ввод совпадающих данных для каждой организации отдельно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SzPct val="11575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зические лица, сотрудники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SzPct val="11575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числения, удержания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SzPct val="11575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особы отражения зарплаты в учете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SzPct val="11575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2771640" y="2637000"/>
            <a:ext cx="6193080" cy="3965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4859280" y="2637000"/>
            <a:ext cx="4032360" cy="389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3348000" y="2589120"/>
            <a:ext cx="5616720" cy="40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58CD-09CB-4AE3-A0D1-376D0B296F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едение учета нескольких организаций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 единой базе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возможно ведение учета нескольких организаций с различными системами налогообложения в одной базе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8000" y="3573360"/>
            <a:ext cx="3672000" cy="270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556000" y="2565360"/>
            <a:ext cx="3671640" cy="2705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364000" y="3573360"/>
            <a:ext cx="3600720" cy="2673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84360" y="3933720"/>
            <a:ext cx="3024360" cy="432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445000"/>
            <a:ext cx="2737080" cy="360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E19C-31CF-4A0A-805F-1A0B5A61DB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лучение сводной кадровой аналитической отчетности для нескольких организаций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доступна сводная аналитическая информация о работниках всех организаций, учитываемых в единой базе данных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2492280"/>
            <a:ext cx="730728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484360" y="4057560"/>
            <a:ext cx="6659640" cy="2800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24360" y="2349360"/>
            <a:ext cx="4968720" cy="273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D688-A04B-412E-9B01-B6D6DADBC6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адровые документы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не предусмотрены формы Т-54, Т-10а, Т-10, Т-7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реализованы все унифицированные формы по труду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122560" y="1989000"/>
            <a:ext cx="6697440" cy="4551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116000" y="2066760"/>
            <a:ext cx="6912000" cy="4530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4788000" cy="3728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24360" y="2895480"/>
            <a:ext cx="521964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5749-795F-4D5C-9823-8A27D2ABA2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оинский учет работник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иК предусмотрен ввод  данных о воинском учете в личную карточку работника формы Т-2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УП полностью автоматизирован воинский учет и формирование необходимой отчетност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рточка учета организации в военкомате (форма №18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несение о количестве граждан запаса (форма 11/МУ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чет о численности работающих и забронированных граждан запаса (форма №6) и другие отчеты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835280" y="3357720"/>
            <a:ext cx="5575320" cy="3438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1187280" y="3213000"/>
            <a:ext cx="6802560" cy="3119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1476360" y="2852640"/>
            <a:ext cx="6337440" cy="3837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3357720"/>
            <a:ext cx="20509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97BF-E512-4C04-9C50-09FE865033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Графики отпуск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8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автоматизированы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егистрация графиков отпусков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асчет остатков отпусков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2421000"/>
            <a:ext cx="7129800" cy="4449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2124000" y="2978280"/>
            <a:ext cx="5184720" cy="34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7283-BA5B-42D3-8C2D-44277D4FAF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0000" y="-360"/>
            <a:ext cx="73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Учет использования рабочего времен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0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олько в ЗУП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едусмотрены графики неполного рабочего времен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22160" indent="-19980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 сокращенной рабочей неделей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2160" indent="-19980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 неполным рабочим днем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716360" y="1125360"/>
            <a:ext cx="4172040" cy="549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6446-7CB0-40FD-A36F-D16278456C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4:02:24Z</dcterms:created>
  <dc:creator>0</dc:creator>
  <dc:description/>
  <dc:language>en-US</dc:language>
  <cp:lastModifiedBy>Баратынский Андрей</cp:lastModifiedBy>
  <dcterms:modified xsi:type="dcterms:W3CDTF">2008-12-29T12:19:41Z</dcterms:modified>
  <cp:revision>49</cp:revision>
  <dc:subject/>
  <dc:title>Слайд 1</dc:title>
</cp:coreProperties>
</file>